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F7D09-95E4-447A-99F0-E4ADEFD1748F}" type="slidenum">
              <a:rPr b="0" lang="en-A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ur students are already engaged but with Portfolios this will add to their strengths by.</a:t>
            </a: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5AD32-C663-49A0-B8B6-DCF7FA52356C}"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Questions to ask after the portfolio journey</a:t>
            </a: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B14DE-43A2-44A2-814F-55D03845BEF1}"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rainstorm in grps, ask for comments, write down.</a:t>
            </a: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472EC-E613-47CB-A04B-0550F385DFD5}"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ason for going down this path, it’s in the School Strategic Plan. p14</a:t>
            </a: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C45A0-FE4D-4EBF-85BA-81786950AAA4}"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ngs to think about before we go down this path. P.16</a:t>
            </a: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C55D2-4394-4C83-9B69-F89407994F2D}"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re is some suggested formats, p.18</a:t>
            </a: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ECF17-E5C7-4284-9F83-1208B9D93DC8}"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o get things started, develop a clear idea of what you want to achieve in your classroom with portfolios but remain adaptable then talk to your students (Hand out questions for discussion and ‘How to’ ideas). P 20</a:t>
            </a: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2A431-3122-4F78-839F-3E53C2719A96}"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alk to each area, hand out samples of front page, contents. P 23</a:t>
            </a: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AC08A-900C-4C46-9254-AEA3CC198185}"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re’s Paul talking about his portfolio</a:t>
            </a: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0D8A0-8362-489C-BB30-542148ABD2B5}"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F25C0-2C55-4770-9BE7-249CB19E79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6A558-C5B8-41CD-B020-5C486FFCD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127E77-0EB1-4B43-BA5A-AA11EFCE96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352C9B-1830-4CF9-85E1-4F71B34F2E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2F4977-DCC7-4D6F-A909-D3BFF6B5A2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3A44C4-FBE5-4476-8BC9-D26ACE427D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B457D6-2BED-43B3-8701-900A358AA5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B7B230-6D1B-4826-9AB6-C03F7613CD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FA2CE2-ADC3-416A-9646-D5886B710A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44E01B-1D03-45A3-B659-8A27D1BEB1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4CC56-3EB8-4B42-98D5-64B9B90A4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A6AA7-85FC-403E-972F-B0AD5040A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FC8E9-EBE1-484F-A725-79E5EE066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5397D-16BE-4362-803B-62FEA6C48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F83FD0-4515-4118-8272-1484246028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A45A83-A2F6-4940-96DB-519822C0C1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71245A-D4A7-43D1-8D15-D09D4AC873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2AA658D-9F57-4B89-A8C9-2F2A7C6AE2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6043C93-8C44-43F3-BB60-E875D77CF8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B38E441-02C6-41C6-9ECE-B72FD0A75D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8D492FA-0FF5-47AF-A6E6-33AA92C934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9679B87-AFBD-4461-B9F5-A0E364C696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05703-8F6F-4880-A2D9-CA86F7B38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5DA51AD-EF6C-40F5-B018-E6ED952B13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6CB05C1-EE06-43A9-8A6D-DB97310DAE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B9435F7-F80F-4673-8A07-AB270A4C5A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CAD0ECD-7D63-44D9-9799-038AF386A8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E1ACE62-1897-4B91-9A1A-ACF13CED77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E761410-9648-48F2-9381-8E9FFE9984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6880C35-0047-45E1-919F-B2DC37B752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84A8C6-FB5E-4FD2-AADE-2C2B9B7828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3ECA2D-F1E7-4951-B34F-53543F88FE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F3005E-D162-4A70-AED7-168337BAD0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9533B-4CDB-4EC5-9E09-350EBAED3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85441E-676C-4C2D-81F8-D76C4FDF15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A6FD19-24F5-4063-B513-47F1F8AAC6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AE5975-A816-4FD4-88F6-2323B30DAE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4BF84B-165A-4F84-BF20-8F02D3D123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04793E-415E-4E9C-88FB-E02E591AA8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39AB6E-C3D6-41C6-B494-A40B547A65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085E2B-40F5-4D4A-9EFB-D33FF6466F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BC1B8F-70AF-434D-99DB-B5A369912B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3B35BA-64BD-4BA1-9E52-630B26B462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73BB357-2196-4521-B6D6-84BC5B716F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64F0E-A1CD-4C60-8B11-9051E1557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4B009A8-28F0-45C1-9D12-CD6E6F1D3F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1759D54-2B9F-4AA5-8626-D021B7E8DA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0D6D4C6-873A-4B32-926B-AD60012BAD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7BD1E90-7C59-4DEB-9A1E-0DA0531FAF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B8DAE6A-4D62-4488-AEDF-A7BB12942E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9DF69EC-3B80-414B-A1EC-67CE4A1844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0A3A4A3-12F7-40AD-A8C6-8F13E73EC2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4C236EB-1AA8-4481-A2D5-0B466B2E34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C0DF734-FE06-4EE5-A58C-8CCDDB0F42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61333D4-C567-4D0C-BE82-DD8173F4A1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13EB5-D4D8-4938-B801-D9496AAC3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E53A6BF-A418-481B-9F84-85E71E33F7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4D013969-0D83-4014-9D47-C057B31512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4673D81-DA99-4EE4-AAB8-6B0D2AAC25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7E64E79-936D-4FCB-8046-317C09CB1A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64140A3-97B0-4F83-A2F2-7C86DAEAEC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9C1AE07-74DE-4CD7-AF26-FE53FC0D43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EA8983D-062D-4410-BDFE-DEC316256E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0D2C70A-A5E6-4366-AA33-8113D0AC1F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94883B0-B2E0-417C-9DF3-018A66D41F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C22FA4E-A4D2-411D-BB69-9F07F64DD7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C895F-AFC0-41B4-9399-6A098B846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C6EAC93-97AB-4AA4-A4C0-98E7CE005B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82A2D795-0748-406B-B506-A10F8733AA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D5A7C04-2654-4234-A9D5-35A2E4EDA1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D651123-B911-47A3-8AD8-9DFEDA4101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D3AC7A5-EFE2-45E2-8F51-38A17051C7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828A1A0-7866-4563-B0B4-0B84ACAC42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D0F024B-84B4-4EA2-AF8C-FF20859349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8C25CA2-4651-4A6B-BD26-39310819B6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AE41DFA-66A0-4583-8628-9C3FB8ED5D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487AFF9-9EF6-4257-B53B-FB619AB667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12D26-D294-491D-A7A6-8F94A8BE0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BA97221-BE5E-4092-BB38-2A754D57F3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6A5E055-7806-4BF2-B321-6808F6DE1E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7B9B68C-1BD9-4158-9B40-5DF33FDFFF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8A429F2-B273-49AF-AB3C-598BEF2F57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6939581-31EA-4E01-83CE-A8123A1065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728BD-2F8C-4CB3-A43A-21D42A3986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DF2EA-CE64-4B27-86B5-5C90D53EA50A}" type="slidenum">
              <a:rPr b="1" lang="en-A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B66C8-014F-4C50-8A12-D04D83AEA226}" type="slidenum">
              <a:rPr b="1" lang="en-A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D45D3-9327-49DB-A2DC-F438D7D8731A}" type="slidenum">
              <a:rPr b="1" lang="en-A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96D45-B1F7-45C3-B09B-094BAFB1A890}" type="slidenum">
              <a:rPr b="1" lang="en-A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6084A-03F0-478A-9374-40AAEF836FCE}" type="slidenum">
              <a:rPr b="1" lang="en-A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22480-716E-4052-A150-7EEE40AB6CD7}" type="slidenum">
              <a:rPr b="1" lang="en-A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D3E62-F40D-4300-A097-F46B1E1150E7}" type="slidenum">
              <a:rPr b="1" lang="en-A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hyperlink" Target="file:///E:/Paul%20Portfolio.pps" TargetMode="External"/><Relationship Id="rId3" Type="http://schemas.openxmlformats.org/officeDocument/2006/relationships/image" Target="../media/image5.wmf"/><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575f6d"/>
                </a:solidFill>
                <a:latin typeface="Century Schoolbook"/>
              </a:rPr>
              <a:t>ASSESSING THE WHOLE CHILD</a:t>
            </a:r>
            <a:endParaRPr b="0" lang="en-US" sz="3000" spc="-1" strike="noStrike">
              <a:solidFill>
                <a:srgbClr val="575f6d"/>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75f6d"/>
                </a:solidFill>
                <a:latin typeface="Century Schoolbook"/>
              </a:rPr>
              <a:t>CREATING POWEFUL PORTFOLIOS</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575f6d"/>
                </a:solidFill>
                <a:latin typeface="Century Schoolbook"/>
              </a:rPr>
              <a:t>WHERE’S IT GOING?</a:t>
            </a:r>
            <a:endParaRPr b="0" lang="en-US" sz="3000" spc="-1" strike="noStrike">
              <a:solidFill>
                <a:srgbClr val="575f6d"/>
              </a:solidFill>
              <a:latin typeface="Century Schoolbook"/>
            </a:endParaRPr>
          </a:p>
        </p:txBody>
      </p:sp>
      <p:pic>
        <p:nvPicPr>
          <p:cNvPr id="380" name="Content Placeholder 3" descr=""/>
          <p:cNvPicPr/>
          <p:nvPr/>
        </p:nvPicPr>
        <p:blipFill>
          <a:blip r:embed="rId1"/>
          <a:stretch/>
        </p:blipFill>
        <p:spPr>
          <a:xfrm>
            <a:off x="438120" y="1566720"/>
            <a:ext cx="7510320" cy="4943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575f6d"/>
                </a:solidFill>
                <a:latin typeface="Century Schoolbook"/>
              </a:rPr>
              <a:t>WHERE’S IT GOING?</a:t>
            </a:r>
            <a:endParaRPr b="0" lang="en-US" sz="3000" spc="-1" strike="noStrike">
              <a:solidFill>
                <a:srgbClr val="575f6d"/>
              </a:solidFill>
              <a:latin typeface="Century Schoolbook"/>
            </a:endParaRPr>
          </a:p>
        </p:txBody>
      </p:sp>
      <p:pic>
        <p:nvPicPr>
          <p:cNvPr id="382" name="Content Placeholder 4" descr=""/>
          <p:cNvPicPr/>
          <p:nvPr/>
        </p:nvPicPr>
        <p:blipFill>
          <a:blip r:embed="rId1"/>
          <a:stretch/>
        </p:blipFill>
        <p:spPr>
          <a:xfrm>
            <a:off x="438120" y="1566720"/>
            <a:ext cx="7510320" cy="4943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575f6d"/>
                </a:solidFill>
                <a:latin typeface="Century Schoolbook"/>
              </a:rPr>
              <a:t>HOW DID WE GO?</a:t>
            </a:r>
            <a:endParaRPr b="0" lang="en-US" sz="3000" spc="-1" strike="noStrike">
              <a:solidFill>
                <a:srgbClr val="575f6d"/>
              </a:solidFill>
              <a:latin typeface="Century Schoolbook"/>
            </a:endParaRPr>
          </a:p>
        </p:txBody>
      </p:sp>
      <p:sp>
        <p:nvSpPr>
          <p:cNvPr id="38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Schoolbook"/>
              </a:rPr>
              <a:t>What did you set out to achieve through developing a portfoli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Schoolbook"/>
              </a:rPr>
              <a:t>What does the portfolio tell people about you?</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Schoolbook"/>
              </a:rPr>
              <a:t>What do you like most about your portfoli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Schoolbook"/>
              </a:rPr>
              <a:t>What challenged you?</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Schoolbook"/>
              </a:rPr>
              <a:t>How has the portfolio helped you?</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Schoolbook"/>
              </a:rPr>
              <a:t>How could you make it more effective if you were to do it agai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Schoolbook"/>
              </a:rPr>
              <a:t>What surprised you?</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Schoolbook"/>
              </a:rPr>
              <a:t>What has the portfolio helped you learn about yourself?</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71388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575f6d"/>
                </a:solidFill>
                <a:latin typeface="Century Schoolbook"/>
              </a:rPr>
              <a:t>WHAT IS A POWERFUL PORTFOLIO?</a:t>
            </a:r>
            <a:endParaRPr b="0" lang="en-US" sz="3000" spc="-1" strike="noStrike">
              <a:solidFill>
                <a:srgbClr val="575f6d"/>
              </a:solidFill>
              <a:latin typeface="Century Schoolbook"/>
            </a:endParaRPr>
          </a:p>
        </p:txBody>
      </p:sp>
      <p:sp>
        <p:nvSpPr>
          <p:cNvPr id="361" name="PlaceHolder 2"/>
          <p:cNvSpPr>
            <a:spLocks noGrp="1"/>
          </p:cNvSpPr>
          <p:nvPr>
            <p:ph type="subTitle"/>
          </p:nvPr>
        </p:nvSpPr>
        <p:spPr>
          <a:xfrm>
            <a:off x="1371600" y="2428560"/>
            <a:ext cx="6400800" cy="371484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75f6d"/>
                </a:solidFill>
                <a:latin typeface="Century Schoolbook"/>
              </a:rPr>
              <a:t>Portfolios where work samples are collected or ‘all about me’ slides are produced are NOT examples of authentic assessment.</a:t>
            </a:r>
            <a:endParaRPr b="0" lang="en-US" sz="24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75f6d"/>
                </a:solidFill>
                <a:latin typeface="Century Schoolbook"/>
              </a:rPr>
              <a:t>Portfolios that support authentic assessment reflect the thinking. This puts the student in charge of their own learning which occurs when they understand their place within it.</a:t>
            </a:r>
            <a:endParaRPr b="0" lang="en-US" sz="2400" spc="-1" strike="noStrike">
              <a:solidFill>
                <a:srgbClr val="000000"/>
              </a:solidFill>
              <a:latin typeface="Century Schoolbook"/>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575f6d"/>
                </a:solidFill>
                <a:latin typeface="Century Schoolbook"/>
              </a:rPr>
              <a:t>PURPOSE</a:t>
            </a:r>
            <a:endParaRPr b="0" lang="en-US" sz="3000" spc="-1" strike="noStrike">
              <a:solidFill>
                <a:srgbClr val="575f6d"/>
              </a:solidFill>
              <a:latin typeface="Century Schoolbook"/>
            </a:endParaRPr>
          </a:p>
        </p:txBody>
      </p:sp>
      <p:pic>
        <p:nvPicPr>
          <p:cNvPr id="363" name="Content Placeholder 3" descr=""/>
          <p:cNvPicPr/>
          <p:nvPr/>
        </p:nvPicPr>
        <p:blipFill>
          <a:blip r:embed="rId1"/>
          <a:stretch/>
        </p:blipFill>
        <p:spPr>
          <a:xfrm>
            <a:off x="450720" y="1584360"/>
            <a:ext cx="7480440" cy="489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7138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575f6d"/>
                </a:solidFill>
                <a:latin typeface="Century Schoolbook"/>
              </a:rPr>
              <a:t>PURPOSE</a:t>
            </a:r>
            <a:endParaRPr b="0" lang="en-US" sz="3000" spc="-1" strike="noStrike">
              <a:solidFill>
                <a:srgbClr val="575f6d"/>
              </a:solidFill>
              <a:latin typeface="Century Schoolbook"/>
            </a:endParaRPr>
          </a:p>
        </p:txBody>
      </p:sp>
      <p:sp>
        <p:nvSpPr>
          <p:cNvPr id="365" name="PlaceHolder 2"/>
          <p:cNvSpPr>
            <a:spLocks noGrp="1"/>
          </p:cNvSpPr>
          <p:nvPr>
            <p:ph type="subTitle"/>
          </p:nvPr>
        </p:nvSpPr>
        <p:spPr>
          <a:xfrm>
            <a:off x="1371600" y="1714320"/>
            <a:ext cx="6400800" cy="45003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1800" spc="-1" strike="noStrike">
              <a:solidFill>
                <a:srgbClr val="575f6d"/>
              </a:solidFill>
              <a:latin typeface="Century Schoolbook"/>
            </a:endParaRPr>
          </a:p>
        </p:txBody>
      </p:sp>
      <p:pic>
        <p:nvPicPr>
          <p:cNvPr id="366" name="Diagram 4" descr=""/>
          <p:cNvPicPr/>
          <p:nvPr/>
        </p:nvPicPr>
        <p:blipFill>
          <a:blip r:embed="rId1"/>
          <a:stretch/>
        </p:blipFill>
        <p:spPr>
          <a:xfrm>
            <a:off x="1566720" y="1768320"/>
            <a:ext cx="6108840" cy="455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49968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575f6d"/>
                </a:solidFill>
                <a:latin typeface="Century Schoolbook"/>
              </a:rPr>
              <a:t>SOME QUESTIONS TO ASK.</a:t>
            </a:r>
            <a:endParaRPr b="0" lang="en-US" sz="3000" spc="-1" strike="noStrike">
              <a:solidFill>
                <a:srgbClr val="575f6d"/>
              </a:solidFill>
              <a:latin typeface="Century Schoolbook"/>
            </a:endParaRPr>
          </a:p>
        </p:txBody>
      </p:sp>
      <p:sp>
        <p:nvSpPr>
          <p:cNvPr id="368" name="PlaceHolder 2"/>
          <p:cNvSpPr>
            <a:spLocks noGrp="1"/>
          </p:cNvSpPr>
          <p:nvPr>
            <p:ph type="subTitle"/>
          </p:nvPr>
        </p:nvSpPr>
        <p:spPr>
          <a:xfrm>
            <a:off x="1371600" y="1642680"/>
            <a:ext cx="6400800" cy="399564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75f6d"/>
                </a:solidFill>
                <a:latin typeface="Century Schoolbook"/>
              </a:rPr>
              <a:t>What does an authentic student portfolio look like?</a:t>
            </a:r>
            <a:endParaRPr b="0" lang="en-US" sz="18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75f6d"/>
                </a:solidFill>
                <a:latin typeface="Century Schoolbook"/>
              </a:rPr>
              <a:t>What is its purpose at Glenferrie Primary school?</a:t>
            </a:r>
            <a:endParaRPr b="0" lang="en-US" sz="18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75f6d"/>
                </a:solidFill>
                <a:latin typeface="Century Schoolbook"/>
              </a:rPr>
              <a:t>Do they have a student voice in them?</a:t>
            </a:r>
            <a:endParaRPr b="0" lang="en-US" sz="18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75f6d"/>
                </a:solidFill>
                <a:latin typeface="Century Schoolbook"/>
              </a:rPr>
              <a:t>Where should we start?</a:t>
            </a:r>
            <a:endParaRPr b="0" lang="en-US" sz="18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75f6d"/>
                </a:solidFill>
                <a:latin typeface="Century Schoolbook"/>
              </a:rPr>
              <a:t>What will we use? Folders, display books, scrap books.</a:t>
            </a:r>
            <a:endParaRPr b="0" lang="en-US" sz="18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75f6d"/>
                </a:solidFill>
                <a:latin typeface="Century Schoolbook"/>
              </a:rPr>
              <a:t>Where will they be housed? Chair bags, central container.</a:t>
            </a:r>
            <a:endParaRPr b="0" lang="en-US" sz="18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75f6d"/>
                </a:solidFill>
                <a:latin typeface="Century Schoolbook"/>
              </a:rPr>
              <a:t>What materials will be needed? Paper, card, photocopying (colour?)</a:t>
            </a:r>
            <a:endParaRPr b="0" lang="en-US" sz="18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75f6d"/>
                </a:solidFill>
                <a:latin typeface="Century Schoolbook"/>
              </a:rPr>
              <a:t>Cost of the materials, does it come from the book list or a curriculum budget?</a:t>
            </a:r>
            <a:endParaRPr b="0" lang="en-US" sz="18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428760"/>
            <a:ext cx="7772400" cy="1000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575f6d"/>
                </a:solidFill>
                <a:latin typeface="Century Schoolbook"/>
              </a:rPr>
              <a:t>SPECIFIC FOCUS</a:t>
            </a:r>
            <a:endParaRPr b="0" lang="en-US" sz="3000" spc="-1" strike="noStrike">
              <a:solidFill>
                <a:srgbClr val="575f6d"/>
              </a:solidFill>
              <a:latin typeface="Century Schoolbook"/>
            </a:endParaRPr>
          </a:p>
        </p:txBody>
      </p:sp>
      <p:sp>
        <p:nvSpPr>
          <p:cNvPr id="370" name="PlaceHolder 2"/>
          <p:cNvSpPr>
            <a:spLocks noGrp="1"/>
          </p:cNvSpPr>
          <p:nvPr>
            <p:ph type="subTitle"/>
          </p:nvPr>
        </p:nvSpPr>
        <p:spPr>
          <a:xfrm>
            <a:off x="1371600" y="1857240"/>
            <a:ext cx="6400800" cy="378144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575f6d"/>
                </a:solidFill>
                <a:latin typeface="Century Schoolbook"/>
              </a:rPr>
              <a:t>Some examples of different types of portfolios:</a:t>
            </a:r>
            <a:endParaRPr b="0" lang="en-US" sz="15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575f6d"/>
                </a:solidFill>
                <a:latin typeface="Century Schoolbook"/>
              </a:rPr>
              <a:t>Year’s Duration Portfolio</a:t>
            </a:r>
            <a:endParaRPr b="0" lang="en-US" sz="15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575f6d"/>
                </a:solidFill>
                <a:latin typeface="Century Schoolbook"/>
              </a:rPr>
              <a:t>Literacy Portfolio</a:t>
            </a:r>
            <a:endParaRPr b="0" lang="en-US" sz="15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575f6d"/>
                </a:solidFill>
                <a:latin typeface="Century Schoolbook"/>
              </a:rPr>
              <a:t>Numeracy Portfolio</a:t>
            </a:r>
            <a:endParaRPr b="0" lang="en-US" sz="15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575f6d"/>
                </a:solidFill>
                <a:latin typeface="Century Schoolbook"/>
              </a:rPr>
              <a:t>Integrated Portfolio</a:t>
            </a:r>
            <a:endParaRPr b="0" lang="en-US" sz="15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575f6d"/>
                </a:solidFill>
                <a:latin typeface="Century Schoolbook"/>
              </a:rPr>
              <a:t>Best Work Portfolio- (Could lead towards an exhibition)</a:t>
            </a:r>
            <a:endParaRPr b="0" lang="en-US" sz="15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575f6d"/>
                </a:solidFill>
                <a:latin typeface="Century Schoolbook"/>
              </a:rPr>
              <a:t>Student Wellbeing Portfolio- (Habits of the Mind, bullying etc) </a:t>
            </a:r>
            <a:endParaRPr b="0" lang="en-US" sz="15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575f6d"/>
                </a:solidFill>
                <a:latin typeface="Century Schoolbook"/>
              </a:rPr>
              <a:t>Goal setting Portfolio</a:t>
            </a:r>
            <a:endParaRPr b="0" lang="en-US" sz="15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575f6d"/>
                </a:solidFill>
                <a:latin typeface="Century Schoolbook"/>
              </a:rPr>
              <a:t>Portfolios are only limited by the imagination of both teacher and students. Provided the purpose is clear, shared and conducive to authentic assessment, then the time is ripe to begin the journey.</a:t>
            </a:r>
            <a:endParaRPr b="0" lang="en-US" sz="15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575f6d"/>
                </a:solidFill>
                <a:latin typeface="Century Schoolbook"/>
              </a:rPr>
              <a:t>GETTING STARTED</a:t>
            </a:r>
            <a:endParaRPr b="0" lang="en-US" sz="3000" spc="-1" strike="noStrike">
              <a:solidFill>
                <a:srgbClr val="575f6d"/>
              </a:solidFill>
              <a:latin typeface="Century Schoolbook"/>
            </a:endParaRPr>
          </a:p>
        </p:txBody>
      </p:sp>
      <p:pic>
        <p:nvPicPr>
          <p:cNvPr id="372" name="Content Placeholder 3" descr=""/>
          <p:cNvPicPr/>
          <p:nvPr/>
        </p:nvPicPr>
        <p:blipFill>
          <a:blip r:embed="rId1"/>
          <a:stretch/>
        </p:blipFill>
        <p:spPr>
          <a:xfrm>
            <a:off x="450720" y="1584360"/>
            <a:ext cx="7480440" cy="4908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575f6d"/>
                </a:solidFill>
                <a:latin typeface="Century Schoolbook"/>
              </a:rPr>
              <a:t>THE JOURNEY</a:t>
            </a:r>
            <a:endParaRPr b="0" lang="en-US" sz="3000" spc="-1" strike="noStrike">
              <a:solidFill>
                <a:srgbClr val="575f6d"/>
              </a:solidFill>
              <a:latin typeface="Century Schoolbook"/>
            </a:endParaRPr>
          </a:p>
        </p:txBody>
      </p:sp>
      <p:pic>
        <p:nvPicPr>
          <p:cNvPr id="374" name="Content Placeholder 3" descr=""/>
          <p:cNvPicPr/>
          <p:nvPr/>
        </p:nvPicPr>
        <p:blipFill>
          <a:blip r:embed="rId1"/>
          <a:stretch/>
        </p:blipFill>
        <p:spPr>
          <a:xfrm>
            <a:off x="450720" y="1596960"/>
            <a:ext cx="7480440" cy="4883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428400"/>
            <a:ext cx="7772400" cy="121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575f6d"/>
                </a:solidFill>
                <a:latin typeface="Century Schoolbook"/>
              </a:rPr>
              <a:t>PAUL’S PORTFOLIO</a:t>
            </a:r>
            <a:endParaRPr b="0" lang="en-US" sz="3000" spc="-1" strike="noStrike">
              <a:solidFill>
                <a:srgbClr val="575f6d"/>
              </a:solidFill>
              <a:latin typeface="Century Schoolbook"/>
            </a:endParaRPr>
          </a:p>
        </p:txBody>
      </p:sp>
      <p:sp>
        <p:nvSpPr>
          <p:cNvPr id="376" name="PlaceHolder 2"/>
          <p:cNvSpPr>
            <a:spLocks noGrp="1"/>
          </p:cNvSpPr>
          <p:nvPr>
            <p:ph type="subTitle"/>
          </p:nvPr>
        </p:nvSpPr>
        <p:spPr>
          <a:xfrm>
            <a:off x="1371600" y="1714680"/>
            <a:ext cx="6400800" cy="45720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1800" spc="-1" strike="noStrike">
              <a:solidFill>
                <a:srgbClr val="575f6d"/>
              </a:solidFill>
              <a:latin typeface="Century Schoolbook"/>
            </a:endParaRPr>
          </a:p>
        </p:txBody>
      </p:sp>
      <p:graphicFrame>
        <p:nvGraphicFramePr>
          <p:cNvPr id="377" name="Object 5"/>
          <p:cNvGraphicFramePr/>
          <p:nvPr/>
        </p:nvGraphicFramePr>
        <p:xfrm>
          <a:off x="2357280" y="2214720"/>
          <a:ext cx="4570560" cy="3427200"/>
        </p:xfrm>
        <a:graphic>
          <a:graphicData uri="http://schemas.openxmlformats.org/presentationml/2006/ole">
            <p:oleObj progId="PowerPoint.Show.12" r:id="rId1" spid="">
              <p:embed/>
              <p:pic>
                <p:nvPicPr>
                  <p:cNvPr id="378" name="Object 5" descr="">
                    <a:hlinkClick r:id="rId2"/>
                  </p:cNvPr>
                  <p:cNvPicPr/>
                  <p:nvPr/>
                </p:nvPicPr>
                <p:blipFill>
                  <a:blip r:embed="rId3"/>
                  <a:stretch/>
                </p:blipFill>
                <p:spPr>
                  <a:xfrm>
                    <a:off x="2357280" y="2214720"/>
                    <a:ext cx="4570560" cy="342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8T04:57:19Z</dcterms:created>
  <dc:creator>Education</dc:creator>
  <dc:description/>
  <dc:language>en-US</dc:language>
  <cp:lastModifiedBy>Education</cp:lastModifiedBy>
  <dcterms:modified xsi:type="dcterms:W3CDTF">2009-06-11T22:32:05Z</dcterms:modified>
  <cp:revision>25</cp:revision>
  <dc:subject/>
  <dc:title>ASSESSING THE WHOLE CHILD</dc:title>
</cp:coreProperties>
</file>